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A97-AA23-4775-B393-0885DB1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43E-8A84-45D9-A180-B1D581F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746-09A7-46C3-AEE2-A5228381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001-1048-4E35-A4E0-6764D2D5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E67-677A-4E67-A1EC-8AEB6E3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23E-8D4B-42C5-8328-90381184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5DD-B768-4077-835E-174E29C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72E-3930-4330-96F3-A368ADD3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EE4-871F-4126-BB7A-973993FF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9A8-9498-42DD-8C4C-A8E371E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C14-CFF4-40C6-9CB0-7856736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F71-7B9D-44E4-8A33-D2453B1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002-AC3D-44AF-9DB7-59D1E9ED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ver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smith workers in 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that are silversmith use these type off tools such as an anvils, hammers, and anv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s s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ffeepots, bowls, cups, and oter types of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elt sterling silver to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lversmith lives in a small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lversmith sometimes gets to keep the things he/she d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ce I got this  information is at history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4:20:42Z</dcterms:created>
  <dc:creator>Orange County Schools</dc:creator>
  <dc:description/>
  <dc:language>en-US</dc:language>
  <cp:lastModifiedBy>Orange County Schools</cp:lastModifiedBy>
  <dcterms:modified xsi:type="dcterms:W3CDTF">2010-05-03T14:47:41Z</dcterms:modified>
  <cp:revision>4</cp:revision>
  <dc:subject/>
  <dc:title>Silversmith</dc:title>
</cp:coreProperties>
</file>